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23C-C6E5-4F67-850D-97344972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8BE-1F59-4B71-A689-70D85804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047-67D2-42C2-83FF-4487D64D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2E5-3E6B-4C78-8579-453FBBC1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B98-D129-4774-B580-A23FD0A5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1E8-1D1E-4D3E-8DC1-FFFB2D12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8CD-9E97-4D0A-94D7-0CC8273D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671-4240-4B31-81ED-823F5851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DD1-DB97-4F5C-A31B-D4C865A0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D5D-5345-4A5C-8019-0E1D44D8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A9F-5C2B-437A-9C93-1DBA8B3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299-34CD-45DC-AA5F-0D5D9B14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2A17-7E08-4F19-AE72-6C8DD2C875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88614"/>
                </a:solidFill>
                <a:uFillTx/>
                <a:latin typeface="Times New Roman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80000" y="1213920"/>
            <a:ext cx="536400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8614"/>
                </a:solidFill>
                <a:latin typeface="Times New Roman"/>
              </a:rPr>
              <a:t>    </a:t>
            </a:r>
            <a:r>
              <a:rPr b="1" i="1" lang="ru-RU" sz="4800" spc="-1" strike="noStrike">
                <a:solidFill>
                  <a:srgbClr val="088614"/>
                </a:solidFill>
                <a:latin typeface="Times New Roman"/>
              </a:rPr>
              <a:t>Художественное своеобразие повести А.С.Пушкина «Капитанская дочка»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дочка"/>
          <p:cNvPicPr/>
          <p:nvPr/>
        </p:nvPicPr>
        <p:blipFill>
          <a:blip r:embed="rId1"/>
          <a:stretch/>
        </p:blipFill>
        <p:spPr>
          <a:xfrm>
            <a:off x="0" y="1268280"/>
            <a:ext cx="3684600" cy="544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Композиционные особенност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05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менты компози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экспози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завяз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кульмин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развязка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59280" y="1773360"/>
            <a:ext cx="608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менты развития любов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юже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цена дуэли, письмо от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вобождение Гринёва, женитьба на Ма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тство Петруши в родовом им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накомство Гринёва с главной героиней рома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411280" y="3500280"/>
            <a:ext cx="72072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979640" y="4437000"/>
            <a:ext cx="107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2556000" y="3428640"/>
            <a:ext cx="647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050920" y="4365360"/>
            <a:ext cx="115272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>
            <a:hlinkClick r:id="rId6" action="ppaction://hlinksldjump"/>
          </p:cNvPr>
          <p:cNvSpPr/>
          <p:nvPr/>
        </p:nvSpPr>
        <p:spPr>
          <a:xfrm>
            <a:off x="8604360" y="630864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3794" y="12988"/>
                </a:moveTo>
                <a:lnTo>
                  <a:pt x="17806" y="5982"/>
                </a:lnTo>
                <a:lnTo>
                  <a:pt x="17806" y="1999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Экспоз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компонент сюжета, в котором изображаются жизни персонажей перед завязкой и развитием конфликта или же обрисовывается культурно-исторический и социально-психологический фон, даются сведения о месте и времени предстоящего 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824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69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Завяз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обытие, нарушающее равновесие исходной ситуации, выявляющее в ней противоречие, которое порождает конфликт и приводит в движение сюжет. Завязка может быть подготовлена и мотивированна в экспози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83170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820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Кульмин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момент наивысшего напряжения сюжетного действия, после которого оно движется к развяз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8317080" y="623736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384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азвяз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элемент сюжета, в котором разрешается конфликт и исчерпываются события, изображенные в произвед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8459640" y="6165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«Великодушный государ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419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гачё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раскольник, злодей и самозванец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адит офицера, своего вра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92000" y="1628280"/>
            <a:ext cx="56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лицо её,…,выражало важность и спокойствие, а глаза и улыбка имели важность неизъясниму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ила, в сущности,                                невинного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2195640" y="907920"/>
            <a:ext cx="50472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867280" y="907920"/>
            <a:ext cx="36036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8244000" y="630864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5568" y="10800"/>
                </a:moveTo>
                <a:lnTo>
                  <a:pt x="19581" y="3794"/>
                </a:lnTo>
                <a:lnTo>
                  <a:pt x="1958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8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38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38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38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38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92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192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192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192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ы-символы в роман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уря, бур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кинжа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рёл, воро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иселиц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уть, дорог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могил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он Петра Гринё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тив бура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619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ран в повести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Пугачёв и народный бунт, и единственный выход бунтующего народного сознания. Как стихия, буран возник внезапно из «белого облачка» и утих, исчерпав себ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снег"/>
          <p:cNvPicPr/>
          <p:nvPr/>
        </p:nvPicPr>
        <p:blipFill>
          <a:blip r:embed="rId1"/>
          <a:stretch/>
        </p:blipFill>
        <p:spPr>
          <a:xfrm>
            <a:off x="6443640" y="1916280"/>
            <a:ext cx="2536920" cy="3457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азка старой калмыч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зка старой калмычки об орле и вороне, объясняет жизненную позицию самозванца и создает вокруг него романтический и, в общем, трагический оре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838836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н Петра Гринё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н Петруши вводится в повесть как пророческий сон. Он предвещает развитие отношений двух персонажей: Гринева и Пугаче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месяц"/>
          <p:cNvPicPr/>
          <p:nvPr/>
        </p:nvPicPr>
        <p:blipFill>
          <a:blip r:embed="rId1"/>
          <a:stretch/>
        </p:blipFill>
        <p:spPr>
          <a:xfrm>
            <a:off x="5580000" y="2825640"/>
            <a:ext cx="3095640" cy="22273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"/>
          <p:cNvSpPr/>
          <p:nvPr/>
        </p:nvSpPr>
        <p:spPr>
          <a:xfrm>
            <a:off x="838836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765000"/>
            <a:ext cx="5400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8614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088614"/>
                </a:solidFill>
                <a:latin typeface="Times New Roman"/>
              </a:rPr>
              <a:t>«В «Капитанской дочке» всё не только самая правда, но ещё как бы лучше                  её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8614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088614"/>
                </a:solidFill>
                <a:latin typeface="Times New Roman"/>
              </a:rPr>
              <a:t>Н.В.Гого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пушкин"/>
          <p:cNvPicPr/>
          <p:nvPr/>
        </p:nvPicPr>
        <p:blipFill>
          <a:blip r:embed="rId1"/>
          <a:stretch/>
        </p:blipFill>
        <p:spPr>
          <a:xfrm>
            <a:off x="5292720" y="907920"/>
            <a:ext cx="3687840" cy="482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Средства раскрытия образа Пугачёв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2492280"/>
            <a:ext cx="85690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а) портр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б) обращение к фолькло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в) романтические черты, народность обра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г) роль образа Пугачёва в любовном сюжет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д) вставные элемен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8614"/>
                </a:solidFill>
                <a:latin typeface="Times New Roman"/>
              </a:rPr>
              <a:t>е) отношение других персонажей, автора и рассказч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лан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удожественное своеобразие роман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а)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споры о жанр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б)композиционные особенност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г)образы-символ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">
            <a:hlinkClick r:id="rId5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6" action="ppaction://hlinksldjump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185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Жанр произвед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50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мемуа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088614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ром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емейно-быто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равоучите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844640"/>
            <a:ext cx="4495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хро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пове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стор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 любв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1116000" y="981000"/>
            <a:ext cx="71928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 flipH="1">
            <a:off x="2626920" y="1197000"/>
            <a:ext cx="7308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580000" y="12682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7164360" y="1052640"/>
            <a:ext cx="647640" cy="20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7"/>
          <p:cNvSpPr/>
          <p:nvPr/>
        </p:nvSpPr>
        <p:spPr>
          <a:xfrm flipH="1">
            <a:off x="1258560" y="378936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9"/>
          <p:cNvSpPr/>
          <p:nvPr/>
        </p:nvSpPr>
        <p:spPr>
          <a:xfrm>
            <a:off x="3132000" y="3789360"/>
            <a:ext cx="35892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0"/>
          <p:cNvSpPr/>
          <p:nvPr/>
        </p:nvSpPr>
        <p:spPr>
          <a:xfrm flipH="1">
            <a:off x="5866920" y="3716280"/>
            <a:ext cx="10810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1"/>
          <p:cNvSpPr/>
          <p:nvPr/>
        </p:nvSpPr>
        <p:spPr>
          <a:xfrm>
            <a:off x="8604360" y="371628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2">
            <a:hlinkClick r:id="" action="ppaction://hlinkshowjump?jump=previousslide"/>
          </p:cNvPr>
          <p:cNvSpPr/>
          <p:nvPr/>
        </p:nvSpPr>
        <p:spPr>
          <a:xfrm>
            <a:off x="853272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  <a:path fill="darken" w="21600" h="28794">
                <a:moveTo>
                  <a:pt x="3794" y="14397"/>
                </a:moveTo>
                <a:lnTo>
                  <a:pt x="17806" y="7391"/>
                </a:lnTo>
                <a:lnTo>
                  <a:pt x="17806" y="2140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4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4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4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2360" y="83664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муа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воспоминания)-литературное повествование участника общественной, политической, литературно-художественной жизни о событиях, свидетелем или действующим лицом которых он бы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>
            <a:hlinkClick r:id="rId1" action="ppaction://hlinksldjump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10800"/>
                </a:moveTo>
                <a:lnTo>
                  <a:pt x="17842" y="3794"/>
                </a:lnTo>
                <a:lnTo>
                  <a:pt x="1784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353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ве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анр эпического рода литературы, находится между романом и рассказом. В повести важно не столько движения сюжета, сколько разного рода описания: героев, места действия, психологического состояния чело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10800"/>
                </a:moveTo>
                <a:lnTo>
                  <a:pt x="17842" y="3794"/>
                </a:lnTo>
                <a:lnTo>
                  <a:pt x="1784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ом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анр эпического рода литературы. Роман посвящен судьбе личности, её становлению и развитию на фоне общественной жизни, что помогает осмыслить личность как часть всего обще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838836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42472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Хрон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летопись)- литературный жанр, содержащий изложение исторических событий в их временной последовательност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Юлия</cp:lastModifiedBy>
  <dcterms:modified xsi:type="dcterms:W3CDTF">2010-04-08T07:45:45Z</dcterms:modified>
  <cp:revision>21</cp:revision>
  <dc:subject/>
  <dc:title>PowerPoint Presentation</dc:title>
</cp:coreProperties>
</file>